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6FA-870C-49A4-983F-A55C906A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FCA-50D7-4A89-9D88-896418A7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2D3-A31A-4330-8723-00D324EA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65E-9301-48C9-B39E-E0D464D7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3C2-D4A9-47D1-8540-15A4407E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D8B-E503-401E-9C26-FDF52B86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C82-0559-4F79-80F4-BAEBD28E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F49-7E5B-416A-A920-1DA615D0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52B-67C1-4093-83C6-3C0BBEC8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71B-0925-4578-AC0F-6F934AAB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935-67E0-4017-B833-A2943E53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376-24F4-4A8F-B676-6DC5C721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ccec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6479-BD9C-4B9B-8B84-21E26BD30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mccarty.htm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ccec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999400">
            <a:off x="375840" y="1757160"/>
            <a:ext cx="8450280" cy="38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letric 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uitar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7451640" y="5446800"/>
            <a:ext cx="169236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y H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17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28600"/>
            <a:ext cx="5638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bber Bulle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. 27, 201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ccec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McCarty"/>
          <p:cNvPicPr/>
          <p:nvPr/>
        </p:nvPicPr>
        <p:blipFill>
          <a:blip r:embed="rId1"/>
          <a:srcRect l="31349" t="20191" r="0" b="0"/>
          <a:stretch/>
        </p:blipFill>
        <p:spPr>
          <a:xfrm>
            <a:off x="304920" y="838080"/>
            <a:ext cx="380988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019920"/>
            <a:ext cx="8153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ric Guitar Design and Techn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3 February 2012,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mccart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00400" y="347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McCarty"/>
          <p:cNvPicPr/>
          <p:nvPr/>
        </p:nvPicPr>
        <p:blipFill>
          <a:blip r:embed="rId3"/>
          <a:srcRect l="0" t="-2423" r="2933" b="0"/>
          <a:stretch/>
        </p:blipFill>
        <p:spPr>
          <a:xfrm>
            <a:off x="5791320" y="2590920"/>
            <a:ext cx="2514600" cy="319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209376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1905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I have an electric gui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 rot="1668600">
            <a:off x="914040" y="2743200"/>
            <a:ext cx="2743200" cy="3124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19520" y="5029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v flyer, which Ted McCarty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ccec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Electric gui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ic guitar had a finger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magnetic pick up for stringed musical instr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unting or the magnetic pick up for a stringed instruments didn’t change the tone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3145800">
            <a:off x="5257440" y="4267080"/>
            <a:ext cx="228600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ccec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Ted McC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d McCarty worked for Gi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49 he became the vice president for Gi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reated the V Flyer, Explorer, SG,and the Fire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presented the guitars in 1948 to N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ired from Gibson in 19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iring from Gibson, he bought Bigs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d on April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41:34Z</dcterms:created>
  <dc:creator>install</dc:creator>
  <dc:description/>
  <dc:language>en-US</dc:language>
  <cp:lastModifiedBy>install</cp:lastModifiedBy>
  <dcterms:modified xsi:type="dcterms:W3CDTF">2012-03-09T15:02:10Z</dcterms:modified>
  <cp:revision>8</cp:revision>
  <dc:subject/>
  <dc:title>Slide 1</dc:title>
</cp:coreProperties>
</file>